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9CF6-14C4-4212-9553-55F799E0C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E2C3-B923-48C3-B64C-D291635CD7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6E89-6B9D-44AF-9537-5D2F14557A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4C36-D77E-4FD4-9F04-FEA4DDAD11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5DC2-5961-4C6E-88AF-58E5C9B405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224A-56C4-488E-A411-43FCB8A17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7E52-5DCD-44D0-9D66-B1FFDBB7F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0147-2CFD-41B4-947E-6FF777ADDF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D081-758C-4AB6-A2FB-DA66CA81E6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4D7E-7A9D-4E2B-B457-DAD1226CD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B1D5-C952-499A-965D-FEACD2445E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076C-289A-45F3-B1CA-0604DCAEB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E571-B8F8-4B30-9696-1E0A3D9DD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5566-8798-4059-8067-116150B52F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A2F7-4678-4F0E-89B9-9E171BFC1C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0310-90F9-45CD-9274-C430289603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3279-A710-4F00-BBF9-E3922AADAC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2275-7439-432A-AA4A-D8BD2ECF98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1D78-B4AB-4AAD-A8B6-DA1163DFB7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E2D6-DA91-4CCC-AEAF-630FC57FFE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DCE-B32F-44F9-AE34-3349FF7B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87D-58C9-4D35-B7C7-210B72A8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7E8-79EF-4DC2-992D-C373D143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077-26BA-420C-88C8-30659B97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ACA-08E9-44CE-9E68-B4EEB0D4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228-1D2C-4AEB-A4C2-772DB542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3E1-728A-48F3-A72F-77335A92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E3F-FC88-4410-9DC0-66CF2B18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05D-350A-46CA-AAB7-2C941441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ABD-CACE-4440-BC03-2D58AA4B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635-07D9-4F46-84CC-D31F9CAB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3F3-9166-4B1B-985E-C45B6F38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FC19-0159-47D4-9E1F-843582130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51280" y="4797000"/>
            <a:ext cx="291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68360" y="3789360"/>
            <a:ext cx="82818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3"/>
          <p:cNvPicPr/>
          <p:nvPr/>
        </p:nvPicPr>
        <p:blipFill>
          <a:blip r:embed="rId1"/>
          <a:stretch/>
        </p:blipFill>
        <p:spPr>
          <a:xfrm>
            <a:off x="1116000" y="836640"/>
            <a:ext cx="6929280" cy="2833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973080" y="765000"/>
            <a:ext cx="6912000" cy="2824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58920" y="4005360"/>
            <a:ext cx="87850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692360" y="549360"/>
            <a:ext cx="504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84360" y="141300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" descr="C:\Documents and Settings\Учитель\Мои документы\My Pictures\Scan Pictures\20080916\Image2.bmp"/>
          <p:cNvPicPr/>
          <p:nvPr/>
        </p:nvPicPr>
        <p:blipFill>
          <a:blip r:embed="rId1"/>
          <a:stretch/>
        </p:blipFill>
        <p:spPr>
          <a:xfrm>
            <a:off x="900000" y="1557360"/>
            <a:ext cx="7561440" cy="4664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3645000"/>
            <a:ext cx="82296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юж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–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соя, хлопчатник, рис, арахис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их цветения светлое врем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жно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ревышать 12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050920" y="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264360" cy="3384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24000" y="3908520"/>
            <a:ext cx="882000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971640" y="465300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4000" y="393372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260280"/>
            <a:ext cx="4175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Рисунок2"/>
          <p:cNvPicPr/>
          <p:nvPr/>
        </p:nvPicPr>
        <p:blipFill>
          <a:blip r:embed="rId1"/>
          <a:stretch/>
        </p:blipFill>
        <p:spPr>
          <a:xfrm>
            <a:off x="1403280" y="765000"/>
            <a:ext cx="6048360" cy="31910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19280" y="486900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33ccff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Рисунок1"/>
          <p:cNvPicPr/>
          <p:nvPr/>
        </p:nvPicPr>
        <p:blipFill>
          <a:blip r:embed="rId1"/>
          <a:stretch/>
        </p:blipFill>
        <p:spPr>
          <a:xfrm>
            <a:off x="1403280" y="836640"/>
            <a:ext cx="6267600" cy="3381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508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Рисунок1"/>
          <p:cNvPicPr/>
          <p:nvPr/>
        </p:nvPicPr>
        <p:blipFill>
          <a:blip r:embed="rId1"/>
          <a:stretch/>
        </p:blipFill>
        <p:spPr>
          <a:xfrm>
            <a:off x="1187280" y="692280"/>
            <a:ext cx="6737400" cy="39430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97964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58920" y="4203720"/>
            <a:ext cx="87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Рисунок2"/>
          <p:cNvPicPr/>
          <p:nvPr/>
        </p:nvPicPr>
        <p:blipFill>
          <a:blip r:embed="rId1"/>
          <a:stretch/>
        </p:blipFill>
        <p:spPr>
          <a:xfrm>
            <a:off x="1332000" y="620640"/>
            <a:ext cx="6107040" cy="3565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01480" y="3789360"/>
            <a:ext cx="86425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Рисунок2"/>
          <p:cNvPicPr/>
          <p:nvPr/>
        </p:nvPicPr>
        <p:blipFill>
          <a:blip r:embed="rId1"/>
          <a:stretch/>
        </p:blipFill>
        <p:spPr>
          <a:xfrm>
            <a:off x="1116000" y="765000"/>
            <a:ext cx="6929280" cy="28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Рисунок1"/>
          <p:cNvPicPr/>
          <p:nvPr/>
        </p:nvPicPr>
        <p:blipFill>
          <a:blip r:embed="rId1"/>
          <a:stretch/>
        </p:blipFill>
        <p:spPr>
          <a:xfrm>
            <a:off x="2050920" y="549360"/>
            <a:ext cx="5040360" cy="6165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9:05:29Z</dcterms:created>
  <dc:creator>user</dc:creator>
  <dc:description/>
  <dc:language>en-US</dc:language>
  <cp:lastModifiedBy>LEGION</cp:lastModifiedBy>
  <dcterms:modified xsi:type="dcterms:W3CDTF">2014-11-24T13:12:12Z</dcterms:modified>
  <cp:revision>31</cp:revision>
  <dc:subject/>
  <dc:title>Для чего свет нужен растениям </dc:title>
</cp:coreProperties>
</file>